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86D-83C8-4EF7-8B55-2F97BB21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2C0-1DAB-4AFE-8487-597310BA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1C5-A665-4FFD-9CDE-96246758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D1E-558F-470C-B771-604C0B5B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CF5-BA20-4DA5-B759-D74A080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BFB-3B83-4952-B5A3-7B6B21C0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477-9579-4BFC-BC07-03C1C303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6B9-BB8D-4C28-A676-581E699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CE2-B3EA-4DFF-89D0-AD8BA25A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BD4-F27B-4BB8-B932-1AEDE8E2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618-A0CC-42B5-9AFA-A033153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9B7-3A93-4518-AFFD-56A62FAB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3444-00AD-463C-90D8-266DD9382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5920"/>
            <a:ext cx="8640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tidad Reaseguradora:  </a:t>
            </a:r>
            <a:r>
              <a:rPr b="1" lang="fr-FR" sz="1600" spc="-1" strike="noStrike">
                <a:solidFill>
                  <a:srgbClr val="339933"/>
                </a:solidFill>
                <a:latin typeface="Times New Roman"/>
              </a:rPr>
              <a:t>EMPLOYERS REINSURANCE CORPORATION (Sucursal Argent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omicilio: Av. L.N. Alem  619  3º Piso Tel 4317-8774 Fax 4317-8793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esidente: Rodney C. 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836280"/>
            <a:ext cx="10159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/12/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1052640"/>
          <a:ext cx="8640360" cy="272880"/>
        </p:xfrm>
        <a:graphic>
          <a:graphicData uri="http://schemas.openxmlformats.org/drawingml/2006/table">
            <a:tbl>
              <a:tblPr/>
              <a:tblGrid>
                <a:gridCol w="4370760"/>
                <a:gridCol w="4269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A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PAS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79280" y="1357200"/>
            <a:ext cx="211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oni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éd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mue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enes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ros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TOTAL A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2600" y="1373040"/>
            <a:ext cx="153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18.120.7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339920"/>
            <a:ext cx="27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u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romisos Téc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vi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rticipación de 3º en Soc. Contro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TOTAL PAS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PATRIMONIO N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PASIVO + PATRIMO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1368360"/>
            <a:ext cx="153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7.255.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10.864.8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18.120.7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2743200"/>
          <a:ext cx="8627760" cy="288720"/>
        </p:xfrm>
        <a:graphic>
          <a:graphicData uri="http://schemas.openxmlformats.org/drawingml/2006/table">
            <a:tbl>
              <a:tblPr/>
              <a:tblGrid>
                <a:gridCol w="4364640"/>
                <a:gridCol w="4263120"/>
              </a:tblGrid>
              <a:tr h="2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STRUCTURA TE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STRUCTURA FINANCI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79280" y="3000240"/>
            <a:ext cx="33289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PRIMAS Y RECARGOS DEVEN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mas de Reaseg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omisos Técnicos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omisos Técnicos del Ej.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IB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SINIESTROS NETOS DEVEN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agados N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endientes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endientes del Ej.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GASTOS TO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tos de Produ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tos de Explo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RESULTADO TECNICO DEL REASEG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*) 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RESULTADO TE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3000240"/>
            <a:ext cx="100836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3.415.2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978.3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915.2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1.521.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1.521.6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022560"/>
            <a:ext cx="107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850.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1033.3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97.7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336.4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1.484.3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2.4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314.6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600.6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971800"/>
            <a:ext cx="360072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por Re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por Ten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tros 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tros E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astos de Explotación y Otros Car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rticipación de 3º en Soc. Contro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DE OPERACIONES ORDIN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de Operaciones Extraordinar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mpuesto a las Gana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3022560"/>
            <a:ext cx="93672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-461.0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1.060.5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415.4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3048120"/>
            <a:ext cx="153504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83.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5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38.5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1.208.1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97720"/>
            <a:ext cx="748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*)  Ingresos, Egresos, Indemnizaciones y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6524640"/>
            <a:ext cx="83516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44720" y="1362240"/>
            <a:ext cx="153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157.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.832.7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035.6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4.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38880" y="1379520"/>
            <a:ext cx="153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2225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033.3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8:09:23Z</dcterms:created>
  <dc:creator>arodriguez</dc:creator>
  <dc:description/>
  <dc:language>en-US</dc:language>
  <cp:lastModifiedBy>arodriguez</cp:lastModifiedBy>
  <dcterms:modified xsi:type="dcterms:W3CDTF">2006-07-26T19:24:47Z</dcterms:modified>
  <cp:revision>13</cp:revision>
  <dc:subject/>
  <dc:title>Diapositiva 1</dc:title>
</cp:coreProperties>
</file>