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095-4969-4F7A-8CED-A5385029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8B3-38CB-487D-AA3B-EE79E373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73B-CE08-4B42-AE4A-F7AFB628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028-DFB7-4B04-BA79-0D65DAED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06C-195D-461F-BACF-292DDE34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3E2-1BA4-4F39-B82B-91B5EAB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DD5-4B4A-442C-A672-98112D4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47C-F3F6-403E-B835-0F75D849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C78-7910-4F97-B698-41710F50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BF3-DFF0-4E09-A311-6F87C558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C89-DC2D-400F-9013-BD522149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4F2-427F-4612-9335-42BCC274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6B16-D538-4D7A-B9EA-975440483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15920"/>
            <a:ext cx="8423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tidad Reaseguradora:  </a:t>
            </a:r>
            <a:r>
              <a:rPr b="1" lang="es-ES" sz="1600" spc="-1" strike="noStrike">
                <a:solidFill>
                  <a:srgbClr val="339933"/>
                </a:solidFill>
                <a:latin typeface="Times New Roman"/>
              </a:rPr>
              <a:t>ASCONA COMPAÑÍA DE REASEGU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omicilio: San Juan 572 Piso 13º - Cap. Fed. - Tel. 4307-34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residente: Ricardo Ferr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836280"/>
            <a:ext cx="10159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/06/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1052640"/>
          <a:ext cx="8640360" cy="272880"/>
        </p:xfrm>
        <a:graphic>
          <a:graphicData uri="http://schemas.openxmlformats.org/drawingml/2006/table">
            <a:tbl>
              <a:tblPr/>
              <a:tblGrid>
                <a:gridCol w="4370760"/>
                <a:gridCol w="42696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A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PAS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79280" y="1357200"/>
            <a:ext cx="211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oni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éd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mue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enes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ros A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TOTAL A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2600" y="1362240"/>
            <a:ext cx="153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601.7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916.4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8.979.0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6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10.498.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339920"/>
            <a:ext cx="27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u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romisos Téc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vi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rticipación de 3º en Soc. Contro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TOTAL PAS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PATRIMONIO N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PASIVO + PATRIMON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93080" y="1368360"/>
            <a:ext cx="153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223.4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012.4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4.235.9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6.263.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10.498.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92240" y="2708280"/>
          <a:ext cx="8568720" cy="288720"/>
        </p:xfrm>
        <a:graphic>
          <a:graphicData uri="http://schemas.openxmlformats.org/drawingml/2006/table">
            <a:tbl>
              <a:tblPr/>
              <a:tblGrid>
                <a:gridCol w="4334760"/>
                <a:gridCol w="4233960"/>
              </a:tblGrid>
              <a:tr h="28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STRUCTURA TE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STRUCTURA FINANCI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79280" y="3000240"/>
            <a:ext cx="33289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PRIMAS Y RECARGOS DEVEN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mas de Reaseg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omisos Técnicos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romisos Técnicos del Ej.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IB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SINIESTROS NETOS DEVEN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agados N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endientes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niestros Pendientes del Ej.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GASTOS TO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tos de Produ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tos de Explo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RESULTADO TECNICO DEL REASEG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*) 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Times New Roman"/>
              </a:rPr>
              <a:t>RESULTADO TE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3000240"/>
            <a:ext cx="79236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-28.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3022560"/>
            <a:ext cx="7923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-28.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3011400"/>
            <a:ext cx="360036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por Re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por Ten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tros 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tros E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astos de Explotación y Otros Car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rticipación de 3º en Soc. Contro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DE OPERACIONES ORDIN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 de Operaciones Extraordinar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mpuesto a las Gana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RESULTADO DEL EJERC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3168720"/>
            <a:ext cx="79200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-16.1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-44.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33"/>
                </a:solidFill>
                <a:latin typeface="Times New Roman"/>
              </a:rPr>
              <a:t>-44.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3048120"/>
            <a:ext cx="153540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4.7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-50.8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597720"/>
            <a:ext cx="748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*)  Ingresos, Egresos, Indemnizaciones y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6524640"/>
            <a:ext cx="83516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8:09:23Z</dcterms:created>
  <dc:creator>arodriguez</dc:creator>
  <dc:description/>
  <dc:language>en-US</dc:language>
  <cp:lastModifiedBy>arodriguez</cp:lastModifiedBy>
  <dcterms:modified xsi:type="dcterms:W3CDTF">2006-07-26T16:06:19Z</dcterms:modified>
  <cp:revision>7</cp:revision>
  <dc:subject/>
  <dc:title>Diapositiva 1</dc:title>
</cp:coreProperties>
</file>