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move the slide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C93BF90E-2397-49BE-B60F-99EA3B873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29FB6FF1-4CAF-4563-A3CA-60DB2E6EF762}" type="slidenum">
              <a:rPr b="0" lang="en-US" sz="1200" spc="-1" strike="noStrike">
                <a:solidFill>
                  <a:srgbClr val="4454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22328A95-0327-423C-8464-4F88C4CA8CF6}" type="slidenum">
              <a:rPr b="0" lang="en-US" sz="1200" spc="-1" strike="noStrike">
                <a:solidFill>
                  <a:srgbClr val="4454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89987613-FF4E-4CC9-A179-1E996955C79F}" type="slidenum">
              <a:rPr b="0" lang="en-US" sz="1200" spc="-1" strike="noStrike">
                <a:solidFill>
                  <a:srgbClr val="4454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3048A679-2DBA-4B7F-A077-B367684C0EDA}" type="slidenum">
              <a:rPr b="0" lang="en-US" sz="1200" spc="-1" strike="noStrike">
                <a:solidFill>
                  <a:srgbClr val="4454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97E17C12-1138-48B4-878D-97742EB2DD18}" type="slidenum">
              <a:rPr b="0" lang="en-US" sz="1200" spc="-1" strike="noStrike">
                <a:solidFill>
                  <a:srgbClr val="4454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12006F02-1B03-47C0-A299-E15CD0EB3460}" type="slidenum">
              <a:rPr b="0" lang="en-US" sz="1200" spc="-1" strike="noStrike">
                <a:solidFill>
                  <a:srgbClr val="4454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0D337A30-84DC-4481-A042-D8BD0CD23DC4}" type="slidenum">
              <a:rPr b="0" lang="en-US" sz="1200" spc="-1" strike="noStrike">
                <a:solidFill>
                  <a:srgbClr val="4454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B7A-057C-4EC6-83E3-9C941A4A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977-99CE-46F5-91DE-C7E69B0E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AE6-E448-41E3-8D41-92939BFB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6EA-2C39-4D95-A8DA-0A00E570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743-514D-4C1F-B37C-559157F9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36C-1EDE-4939-AA5D-8DDDCFA9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B7B-0795-479E-82AF-3B1CE365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9BC2-0FE6-4234-938D-94D9CE14A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9B82A-D781-41D0-8B68-66163655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E91FB-9175-4FE9-BB02-39740A4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BBF8C-C5ED-470D-9BA2-53D9D854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3FD74-0A2C-4956-B848-7D1CCC0C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8264C-7BF3-4981-9109-F43BB474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B617A-6055-4955-A971-13ADE00B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F6952-3FC7-4249-96A9-BB13042F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BD3B0-D75C-44DF-B8DC-CC982388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B7A49-E105-46A3-B4DD-ED3B3FED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6DF8B-84CE-4DE9-9B6A-9F11B19F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FB8B3-8DE1-43E7-89BD-DBECF8CA93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53F-2749-4973-87EF-A1206530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AEB-6203-4159-94E3-34346506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7D7-7AE8-4298-B10A-350945E6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9BB-072F-46EB-BBC1-C046875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92E-859B-49CC-8E44-16D676B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3008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  <a:defRPr b="0" lang="en-US" sz="900" spc="-1" strike="noStrike">
                <a:solidFill>
                  <a:srgbClr val="9399a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900" spc="-1" strike="noStrike">
                <a:solidFill>
                  <a:srgbClr val="9399a1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  <a:defRPr b="0" lang="en-US" sz="900" spc="-1" strike="noStrike">
                <a:solidFill>
                  <a:srgbClr val="9399a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1672ACB4-8693-4276-AA07-B6516B2984A5}" type="slidenum">
              <a:rPr b="0" lang="en-US" sz="900" spc="-1" strike="noStrike">
                <a:solidFill>
                  <a:srgbClr val="9399a1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Google Shape;56;p14"/>
          <p:cNvSpPr/>
          <p:nvPr/>
        </p:nvSpPr>
        <p:spPr>
          <a:xfrm>
            <a:off x="5938920" y="2533680"/>
            <a:ext cx="720720" cy="76320"/>
          </a:xfrm>
          <a:prstGeom prst="rect">
            <a:avLst/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Google Shape;57;p14"/>
          <p:cNvSpPr/>
          <p:nvPr/>
        </p:nvSpPr>
        <p:spPr>
          <a:xfrm>
            <a:off x="6659640" y="2533680"/>
            <a:ext cx="722160" cy="76320"/>
          </a:xfrm>
          <a:prstGeom prst="rect">
            <a:avLst/>
          </a:prstGeom>
          <a:solidFill>
            <a:srgbClr val="f20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" name="Google Shape;58;p14"/>
          <p:cNvSpPr/>
          <p:nvPr/>
        </p:nvSpPr>
        <p:spPr>
          <a:xfrm>
            <a:off x="0" y="2533680"/>
            <a:ext cx="722160" cy="76320"/>
          </a:xfrm>
          <a:prstGeom prst="rect">
            <a:avLst/>
          </a:prstGeom>
          <a:solidFill>
            <a:srgbClr val="7ec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Google Shape;59;p14"/>
          <p:cNvSpPr/>
          <p:nvPr/>
        </p:nvSpPr>
        <p:spPr>
          <a:xfrm>
            <a:off x="720720" y="2533680"/>
            <a:ext cx="5218200" cy="763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Google Shape;133;p24"/>
          <p:cNvSpPr/>
          <p:nvPr/>
        </p:nvSpPr>
        <p:spPr>
          <a:xfrm>
            <a:off x="360360" y="2765520"/>
            <a:ext cx="64134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Google Shape;61;p15"/>
          <p:cNvSpPr/>
          <p:nvPr/>
        </p:nvSpPr>
        <p:spPr>
          <a:xfrm>
            <a:off x="0" y="0"/>
            <a:ext cx="9144000" cy="399240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Google Shape;64;p15"/>
          <p:cNvSpPr/>
          <p:nvPr/>
        </p:nvSpPr>
        <p:spPr>
          <a:xfrm>
            <a:off x="3048120" y="3992400"/>
            <a:ext cx="3047760" cy="78120"/>
          </a:xfrm>
          <a:prstGeom prst="rect">
            <a:avLst/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4320" bIns="-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Google Shape;65;p15"/>
          <p:cNvSpPr/>
          <p:nvPr/>
        </p:nvSpPr>
        <p:spPr>
          <a:xfrm>
            <a:off x="6095880" y="3992400"/>
            <a:ext cx="3048120" cy="78120"/>
          </a:xfrm>
          <a:prstGeom prst="rect">
            <a:avLst/>
          </a:prstGeom>
          <a:solidFill>
            <a:srgbClr val="f20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4320" bIns="-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Google Shape;66;p15"/>
          <p:cNvSpPr/>
          <p:nvPr/>
        </p:nvSpPr>
        <p:spPr>
          <a:xfrm>
            <a:off x="0" y="3992400"/>
            <a:ext cx="3048120" cy="78120"/>
          </a:xfrm>
          <a:prstGeom prst="rect">
            <a:avLst/>
          </a:prstGeom>
          <a:solidFill>
            <a:srgbClr val="7ec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4320" bIns="-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  <a:defRPr b="0" lang="en-US" sz="900" spc="-1" strike="noStrike">
                <a:solidFill>
                  <a:srgbClr val="9399a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900" spc="-1" strike="noStrike">
                <a:solidFill>
                  <a:srgbClr val="9399a1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  <a:defRPr b="0" lang="en-US" sz="900" spc="-1" strike="noStrike">
                <a:solidFill>
                  <a:srgbClr val="9399a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fld id="{4BA9C114-A4E8-4BFD-B21D-3D834D5F9DB1}" type="slidenum">
              <a:rPr b="0" lang="en-US" sz="900" spc="-1" strike="noStrike">
                <a:solidFill>
                  <a:srgbClr val="9399a1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Google Shape;56;p14"/>
          <p:cNvSpPr/>
          <p:nvPr/>
        </p:nvSpPr>
        <p:spPr>
          <a:xfrm>
            <a:off x="5938920" y="2533680"/>
            <a:ext cx="720720" cy="76320"/>
          </a:xfrm>
          <a:prstGeom prst="rect">
            <a:avLst/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6" name="Google Shape;57;p14"/>
          <p:cNvSpPr/>
          <p:nvPr/>
        </p:nvSpPr>
        <p:spPr>
          <a:xfrm>
            <a:off x="6659640" y="2533680"/>
            <a:ext cx="722160" cy="76320"/>
          </a:xfrm>
          <a:prstGeom prst="rect">
            <a:avLst/>
          </a:prstGeom>
          <a:solidFill>
            <a:srgbClr val="f20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7" name="Google Shape;58;p14"/>
          <p:cNvSpPr/>
          <p:nvPr/>
        </p:nvSpPr>
        <p:spPr>
          <a:xfrm>
            <a:off x="0" y="2533680"/>
            <a:ext cx="722160" cy="76320"/>
          </a:xfrm>
          <a:prstGeom prst="rect">
            <a:avLst/>
          </a:prstGeom>
          <a:solidFill>
            <a:srgbClr val="7ec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8" name="Google Shape;59;p14"/>
          <p:cNvSpPr/>
          <p:nvPr/>
        </p:nvSpPr>
        <p:spPr>
          <a:xfrm>
            <a:off x="720720" y="2533680"/>
            <a:ext cx="5218200" cy="763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Google Shape;17;p4"/>
          <p:cNvSpPr/>
          <p:nvPr/>
        </p:nvSpPr>
        <p:spPr>
          <a:xfrm flipH="1">
            <a:off x="390600" y="379440"/>
            <a:ext cx="8362800" cy="4384800"/>
          </a:xfrm>
          <a:custGeom>
            <a:avLst/>
            <a:gdLst/>
            <a:ahLst/>
            <a:rect l="l" t="t" r="r" b="b"/>
            <a:pathLst>
              <a:path fill="none" w="285508" h="149667">
                <a:moveTo>
                  <a:pt x="252882" y="0"/>
                </a:moveTo>
                <a:lnTo>
                  <a:pt x="13220" y="0"/>
                </a:lnTo>
                <a:lnTo>
                  <a:pt x="11826" y="61"/>
                </a:lnTo>
                <a:lnTo>
                  <a:pt x="10552" y="243"/>
                </a:lnTo>
                <a:lnTo>
                  <a:pt x="9279" y="607"/>
                </a:lnTo>
                <a:lnTo>
                  <a:pt x="8066" y="1031"/>
                </a:lnTo>
                <a:lnTo>
                  <a:pt x="6914" y="1577"/>
                </a:lnTo>
                <a:lnTo>
                  <a:pt x="5822" y="2244"/>
                </a:lnTo>
                <a:lnTo>
                  <a:pt x="4791" y="3032"/>
                </a:lnTo>
                <a:lnTo>
                  <a:pt x="3881" y="3881"/>
                </a:lnTo>
                <a:lnTo>
                  <a:pt x="3032" y="4791"/>
                </a:lnTo>
                <a:lnTo>
                  <a:pt x="2244" y="5822"/>
                </a:lnTo>
                <a:lnTo>
                  <a:pt x="1577" y="6914"/>
                </a:lnTo>
                <a:lnTo>
                  <a:pt x="1031" y="8066"/>
                </a:lnTo>
                <a:lnTo>
                  <a:pt x="607" y="9279"/>
                </a:lnTo>
                <a:lnTo>
                  <a:pt x="243" y="10552"/>
                </a:lnTo>
                <a:lnTo>
                  <a:pt x="61" y="11826"/>
                </a:lnTo>
                <a:lnTo>
                  <a:pt x="0" y="13220"/>
                </a:lnTo>
                <a:lnTo>
                  <a:pt x="0" y="136447"/>
                </a:lnTo>
                <a:lnTo>
                  <a:pt x="61" y="137841"/>
                </a:lnTo>
                <a:lnTo>
                  <a:pt x="243" y="139115"/>
                </a:lnTo>
                <a:lnTo>
                  <a:pt x="607" y="140388"/>
                </a:lnTo>
                <a:lnTo>
                  <a:pt x="1031" y="141601"/>
                </a:lnTo>
                <a:lnTo>
                  <a:pt x="1577" y="142753"/>
                </a:lnTo>
                <a:lnTo>
                  <a:pt x="2244" y="143845"/>
                </a:lnTo>
                <a:lnTo>
                  <a:pt x="3032" y="144876"/>
                </a:lnTo>
                <a:lnTo>
                  <a:pt x="3881" y="145786"/>
                </a:lnTo>
                <a:lnTo>
                  <a:pt x="4791" y="146635"/>
                </a:lnTo>
                <a:lnTo>
                  <a:pt x="5822" y="147423"/>
                </a:lnTo>
                <a:lnTo>
                  <a:pt x="6914" y="148090"/>
                </a:lnTo>
                <a:lnTo>
                  <a:pt x="8066" y="148636"/>
                </a:lnTo>
                <a:lnTo>
                  <a:pt x="9279" y="149060"/>
                </a:lnTo>
                <a:lnTo>
                  <a:pt x="10552" y="149424"/>
                </a:lnTo>
                <a:lnTo>
                  <a:pt x="11826" y="149606"/>
                </a:lnTo>
                <a:lnTo>
                  <a:pt x="13220" y="149667"/>
                </a:lnTo>
                <a:lnTo>
                  <a:pt x="272288" y="149667"/>
                </a:lnTo>
                <a:lnTo>
                  <a:pt x="273682" y="149606"/>
                </a:lnTo>
                <a:lnTo>
                  <a:pt x="274956" y="149424"/>
                </a:lnTo>
                <a:lnTo>
                  <a:pt x="276229" y="149060"/>
                </a:lnTo>
                <a:lnTo>
                  <a:pt x="277442" y="148636"/>
                </a:lnTo>
                <a:lnTo>
                  <a:pt x="278594" y="148090"/>
                </a:lnTo>
                <a:lnTo>
                  <a:pt x="279686" y="147423"/>
                </a:lnTo>
                <a:lnTo>
                  <a:pt x="280717" y="146635"/>
                </a:lnTo>
                <a:lnTo>
                  <a:pt x="281627" y="145786"/>
                </a:lnTo>
                <a:lnTo>
                  <a:pt x="282476" y="144876"/>
                </a:lnTo>
                <a:lnTo>
                  <a:pt x="283264" y="143845"/>
                </a:lnTo>
                <a:lnTo>
                  <a:pt x="283931" y="142753"/>
                </a:lnTo>
                <a:lnTo>
                  <a:pt x="284477" y="141601"/>
                </a:lnTo>
                <a:lnTo>
                  <a:pt x="284901" y="140388"/>
                </a:lnTo>
                <a:lnTo>
                  <a:pt x="285265" y="139115"/>
                </a:lnTo>
                <a:lnTo>
                  <a:pt x="285447" y="137841"/>
                </a:lnTo>
                <a:lnTo>
                  <a:pt x="285508" y="136447"/>
                </a:lnTo>
                <a:lnTo>
                  <a:pt x="285508" y="32626"/>
                </a:lnTo>
              </a:path>
            </a:pathLst>
          </a:custGeom>
          <a:noFill/>
          <a:ln w="19080">
            <a:solidFill>
              <a:srgbClr val="ffffff"/>
            </a:solidFill>
            <a:prstDash val="dot"/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Google Shape;19;p4"/>
          <p:cNvSpPr/>
          <p:nvPr/>
        </p:nvSpPr>
        <p:spPr>
          <a:xfrm>
            <a:off x="204840" y="74520"/>
            <a:ext cx="1106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Raleway"/>
              </a:rPr>
              <a:t>“</a:t>
            </a:r>
            <a:endParaRPr b="0" lang="en-US" sz="1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s://www.argentina.gob.ar/sites/default/files/styles/jumbotron/public/portada_infoleg-01.jpg?itok=ZsDZ35sP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Google Shape;79;p17"/>
          <p:cNvSpPr/>
          <p:nvPr/>
        </p:nvSpPr>
        <p:spPr>
          <a:xfrm>
            <a:off x="7356600" y="5065560"/>
            <a:ext cx="893520" cy="78120"/>
          </a:xfrm>
          <a:prstGeom prst="rect">
            <a:avLst/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4320" bIns="-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Google Shape;80;p17"/>
          <p:cNvSpPr/>
          <p:nvPr/>
        </p:nvSpPr>
        <p:spPr>
          <a:xfrm>
            <a:off x="8250120" y="5065560"/>
            <a:ext cx="893880" cy="78120"/>
          </a:xfrm>
          <a:prstGeom prst="rect">
            <a:avLst/>
          </a:prstGeom>
          <a:solidFill>
            <a:srgbClr val="f20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4320" bIns="-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Google Shape;81;p17"/>
          <p:cNvSpPr/>
          <p:nvPr/>
        </p:nvSpPr>
        <p:spPr>
          <a:xfrm>
            <a:off x="0" y="5065560"/>
            <a:ext cx="893880" cy="78120"/>
          </a:xfrm>
          <a:prstGeom prst="rect">
            <a:avLst/>
          </a:prstGeom>
          <a:solidFill>
            <a:srgbClr val="7ec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4320" bIns="-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Google Shape;82;p17"/>
          <p:cNvSpPr/>
          <p:nvPr/>
        </p:nvSpPr>
        <p:spPr>
          <a:xfrm>
            <a:off x="893880" y="5065560"/>
            <a:ext cx="6462720" cy="781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4320" bIns="-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300800" cy="857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3500" spc="-1" strike="noStrike">
                <a:solidFill>
                  <a:srgbClr val="445469"/>
                </a:solidFill>
                <a:latin typeface="Open Sans"/>
              </a:rPr>
              <a:t>Click to edit the title text format</a:t>
            </a:r>
            <a:endParaRPr b="0" lang="en-US" sz="3500" spc="-1" strike="noStrike">
              <a:solidFill>
                <a:srgbClr val="445469"/>
              </a:solidFill>
              <a:latin typeface="Open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Click to edit the outline text format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1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con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2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•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Third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3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–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our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4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Fif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5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ix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  <a:p>
            <a:pPr lvl="6" marL="343080" indent="-343080">
              <a:spcBef>
                <a:spcPts val="249"/>
              </a:spcBef>
              <a:buClr>
                <a:srgbClr val="445469"/>
              </a:buClr>
              <a:buFont typeface="Arial"/>
              <a:buChar char="»"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en-US" sz="1000" spc="-1" strike="noStrike">
                <a:solidFill>
                  <a:srgbClr val="445469"/>
                </a:solidFill>
                <a:latin typeface="Calibri lig"/>
              </a:rPr>
              <a:t>Seventh Outline Level</a:t>
            </a:r>
            <a:endParaRPr b="0" lang="en-US" sz="1000" spc="-1" strike="noStrike">
              <a:solidFill>
                <a:srgbClr val="445469"/>
              </a:solidFill>
              <a:latin typeface="Calibri li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740880" y="1476360"/>
            <a:ext cx="6659640" cy="1014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82440" bIns="82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1" lang="es-AR" sz="3000" spc="-1" strike="noStrike">
                <a:solidFill>
                  <a:srgbClr val="2185c5"/>
                </a:solidFill>
                <a:latin typeface="Raleway"/>
                <a:ea typeface="Raleway"/>
              </a:rPr>
              <a:t>Sistema UEPEX</a:t>
            </a:r>
            <a:br>
              <a:rPr sz="3000"/>
            </a:br>
            <a:r>
              <a:rPr b="1" lang="es-AR" sz="3000" spc="-1" strike="noStrike">
                <a:solidFill>
                  <a:srgbClr val="2185c5"/>
                </a:solidFill>
                <a:latin typeface="Raleway"/>
                <a:ea typeface="Raleway"/>
              </a:rPr>
              <a:t>	</a:t>
            </a:r>
            <a:r>
              <a:rPr b="1" lang="es-AR" sz="2400" spc="-1" strike="noStrike">
                <a:solidFill>
                  <a:srgbClr val="2185c5"/>
                </a:solidFill>
                <a:latin typeface="Raleway"/>
                <a:ea typeface="Raleway"/>
              </a:rPr>
              <a:t>U</a:t>
            </a:r>
            <a:r>
              <a:rPr b="0" lang="es-AR" sz="2400" spc="-1" strike="noStrike">
                <a:solidFill>
                  <a:srgbClr val="2185c5"/>
                </a:solidFill>
                <a:latin typeface="Raleway"/>
                <a:ea typeface="Raleway"/>
              </a:rPr>
              <a:t>nidades </a:t>
            </a:r>
            <a:r>
              <a:rPr b="1" lang="es-AR" sz="2400" spc="-1" strike="noStrike">
                <a:solidFill>
                  <a:srgbClr val="2185c5"/>
                </a:solidFill>
                <a:latin typeface="Raleway"/>
                <a:ea typeface="Raleway"/>
              </a:rPr>
              <a:t>E</a:t>
            </a:r>
            <a:r>
              <a:rPr b="0" lang="es-AR" sz="2400" spc="-1" strike="noStrike">
                <a:solidFill>
                  <a:srgbClr val="2185c5"/>
                </a:solidFill>
                <a:latin typeface="Raleway"/>
                <a:ea typeface="Raleway"/>
              </a:rPr>
              <a:t>jecutoras de </a:t>
            </a:r>
            <a:r>
              <a:rPr b="1" lang="es-AR" sz="2400" spc="-1" strike="noStrike">
                <a:solidFill>
                  <a:srgbClr val="2185c5"/>
                </a:solidFill>
                <a:latin typeface="Raleway"/>
                <a:ea typeface="Raleway"/>
              </a:rPr>
              <a:t>P</a:t>
            </a:r>
            <a:r>
              <a:rPr b="0" lang="es-AR" sz="2400" spc="-1" strike="noStrike">
                <a:solidFill>
                  <a:srgbClr val="2185c5"/>
                </a:solidFill>
                <a:latin typeface="Raleway"/>
                <a:ea typeface="Raleway"/>
              </a:rPr>
              <a:t>réstamos </a:t>
            </a:r>
            <a:r>
              <a:rPr b="1" lang="es-AR" sz="2400" spc="-1" strike="noStrike">
                <a:solidFill>
                  <a:srgbClr val="2185c5"/>
                </a:solidFill>
                <a:latin typeface="Raleway"/>
                <a:ea typeface="Raleway"/>
              </a:rPr>
              <a:t>EX</a:t>
            </a:r>
            <a:r>
              <a:rPr b="0" lang="es-AR" sz="2400" spc="-1" strike="noStrike">
                <a:solidFill>
                  <a:srgbClr val="2185c5"/>
                </a:solidFill>
                <a:latin typeface="Raleway"/>
                <a:ea typeface="Raleway"/>
              </a:rPr>
              <a:t>ternos </a:t>
            </a:r>
            <a:endParaRPr b="0" lang="en-US" sz="2400" spc="-1" strike="noStrike">
              <a:solidFill>
                <a:srgbClr val="445469"/>
              </a:solidFill>
              <a:latin typeface="Open Sans"/>
            </a:endParaRPr>
          </a:p>
        </p:txBody>
      </p:sp>
      <p:pic>
        <p:nvPicPr>
          <p:cNvPr id="1515" name="Google Shape;136;p24" descr=""/>
          <p:cNvPicPr/>
          <p:nvPr/>
        </p:nvPicPr>
        <p:blipFill>
          <a:blip r:embed="rId1"/>
          <a:stretch/>
        </p:blipFill>
        <p:spPr>
          <a:xfrm>
            <a:off x="741240" y="4719600"/>
            <a:ext cx="1870200" cy="217440"/>
          </a:xfrm>
          <a:prstGeom prst="rect">
            <a:avLst/>
          </a:prstGeom>
          <a:ln w="0">
            <a:noFill/>
          </a:ln>
        </p:spPr>
      </p:pic>
      <p:pic>
        <p:nvPicPr>
          <p:cNvPr id="1516" name="Imagen 22" descr="DGSIAF_encabezado"/>
          <p:cNvPicPr/>
          <p:nvPr/>
        </p:nvPicPr>
        <p:blipFill>
          <a:blip r:embed="rId2"/>
          <a:stretch/>
        </p:blipFill>
        <p:spPr>
          <a:xfrm>
            <a:off x="773280" y="4048200"/>
            <a:ext cx="2092320" cy="671400"/>
          </a:xfrm>
          <a:prstGeom prst="rect">
            <a:avLst/>
          </a:prstGeom>
          <a:ln w="0">
            <a:noFill/>
          </a:ln>
        </p:spPr>
      </p:pic>
      <p:pic>
        <p:nvPicPr>
          <p:cNvPr id="1517" name="10 Imagen" descr="Ministerio_S_Hacienda.png"/>
          <p:cNvPicPr/>
          <p:nvPr/>
        </p:nvPicPr>
        <p:blipFill>
          <a:blip r:embed="rId3"/>
          <a:stretch/>
        </p:blipFill>
        <p:spPr>
          <a:xfrm>
            <a:off x="5504040" y="4067280"/>
            <a:ext cx="3171600" cy="63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TextBox 5"/>
          <p:cNvSpPr/>
          <p:nvPr/>
        </p:nvSpPr>
        <p:spPr>
          <a:xfrm>
            <a:off x="298440" y="1364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AR" sz="1800" spc="-1" strike="noStrike">
                <a:solidFill>
                  <a:srgbClr val="2185c5"/>
                </a:solidFill>
                <a:latin typeface="Raleway"/>
                <a:ea typeface="Calibri lig"/>
              </a:rPr>
              <a:t>UEPEX – TALLER INICIO DE EJERCICIO 202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9" name="Rectangle 8"/>
          <p:cNvSpPr/>
          <p:nvPr/>
        </p:nvSpPr>
        <p:spPr>
          <a:xfrm>
            <a:off x="387360" y="509760"/>
            <a:ext cx="377640" cy="475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0" name="Freeform 133"/>
          <p:cNvSpPr/>
          <p:nvPr/>
        </p:nvSpPr>
        <p:spPr>
          <a:xfrm>
            <a:off x="925560" y="2274840"/>
            <a:ext cx="333360" cy="3351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61" h="561">
                <a:moveTo>
                  <a:pt x="461" y="0"/>
                </a:moveTo>
                <a:lnTo>
                  <a:pt x="461" y="0"/>
                </a:lnTo>
                <a:cubicBezTo>
                  <a:pt x="105" y="0"/>
                  <a:pt x="105" y="0"/>
                  <a:pt x="105" y="0"/>
                </a:cubicBezTo>
                <a:cubicBezTo>
                  <a:pt x="47" y="0"/>
                  <a:pt x="0" y="47"/>
                  <a:pt x="0" y="99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513"/>
                  <a:pt x="47" y="560"/>
                  <a:pt x="105" y="560"/>
                </a:cubicBezTo>
                <a:cubicBezTo>
                  <a:pt x="461" y="560"/>
                  <a:pt x="461" y="560"/>
                  <a:pt x="461" y="560"/>
                </a:cubicBezTo>
                <a:cubicBezTo>
                  <a:pt x="519" y="560"/>
                  <a:pt x="560" y="513"/>
                  <a:pt x="560" y="461"/>
                </a:cubicBezTo>
                <a:cubicBezTo>
                  <a:pt x="560" y="99"/>
                  <a:pt x="560" y="99"/>
                  <a:pt x="560" y="99"/>
                </a:cubicBezTo>
                <a:cubicBezTo>
                  <a:pt x="560" y="47"/>
                  <a:pt x="519" y="0"/>
                  <a:pt x="461" y="0"/>
                </a:cubicBezTo>
                <a:close/>
                <a:moveTo>
                  <a:pt x="461" y="210"/>
                </a:moveTo>
                <a:lnTo>
                  <a:pt x="461" y="210"/>
                </a:lnTo>
                <a:cubicBezTo>
                  <a:pt x="263" y="402"/>
                  <a:pt x="263" y="402"/>
                  <a:pt x="263" y="402"/>
                </a:cubicBezTo>
                <a:cubicBezTo>
                  <a:pt x="263" y="408"/>
                  <a:pt x="251" y="414"/>
                  <a:pt x="239" y="414"/>
                </a:cubicBezTo>
                <a:cubicBezTo>
                  <a:pt x="222" y="414"/>
                  <a:pt x="222" y="414"/>
                  <a:pt x="222" y="414"/>
                </a:cubicBezTo>
                <a:cubicBezTo>
                  <a:pt x="216" y="414"/>
                  <a:pt x="204" y="408"/>
                  <a:pt x="199" y="402"/>
                </a:cubicBezTo>
                <a:cubicBezTo>
                  <a:pt x="111" y="309"/>
                  <a:pt x="111" y="309"/>
                  <a:pt x="111" y="309"/>
                </a:cubicBezTo>
                <a:cubicBezTo>
                  <a:pt x="105" y="303"/>
                  <a:pt x="105" y="298"/>
                  <a:pt x="111" y="292"/>
                </a:cubicBezTo>
                <a:cubicBezTo>
                  <a:pt x="146" y="257"/>
                  <a:pt x="146" y="257"/>
                  <a:pt x="146" y="257"/>
                </a:cubicBezTo>
                <a:cubicBezTo>
                  <a:pt x="152" y="251"/>
                  <a:pt x="158" y="251"/>
                  <a:pt x="164" y="257"/>
                </a:cubicBezTo>
                <a:cubicBezTo>
                  <a:pt x="222" y="315"/>
                  <a:pt x="222" y="315"/>
                  <a:pt x="222" y="315"/>
                </a:cubicBezTo>
                <a:cubicBezTo>
                  <a:pt x="228" y="321"/>
                  <a:pt x="239" y="321"/>
                  <a:pt x="245" y="315"/>
                </a:cubicBezTo>
                <a:cubicBezTo>
                  <a:pt x="403" y="152"/>
                  <a:pt x="403" y="152"/>
                  <a:pt x="403" y="152"/>
                </a:cubicBezTo>
                <a:cubicBezTo>
                  <a:pt x="408" y="146"/>
                  <a:pt x="420" y="146"/>
                  <a:pt x="426" y="152"/>
                </a:cubicBezTo>
                <a:cubicBezTo>
                  <a:pt x="461" y="187"/>
                  <a:pt x="461" y="187"/>
                  <a:pt x="461" y="187"/>
                </a:cubicBezTo>
                <a:cubicBezTo>
                  <a:pt x="467" y="193"/>
                  <a:pt x="467" y="204"/>
                  <a:pt x="461" y="21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1" name="13 CuadroTexto"/>
          <p:cNvSpPr/>
          <p:nvPr/>
        </p:nvSpPr>
        <p:spPr>
          <a:xfrm>
            <a:off x="790200" y="747720"/>
            <a:ext cx="58694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El Instructivo de inicio de Ejercicio se encuentra publicado en: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2" name="15 Rectángulo"/>
          <p:cNvSpPr/>
          <p:nvPr/>
        </p:nvSpPr>
        <p:spPr>
          <a:xfrm>
            <a:off x="820800" y="1071720"/>
            <a:ext cx="78008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https://www.argentina.gob.ar/economia/sechacienda/dgsiaf/uepex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Arial"/>
              </a:rPr>
              <a:t>Documento:  Instructivo Inicio de Ejercicio 2023.do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3" name="Straight Connector 22"/>
          <p:cNvSpPr/>
          <p:nvPr/>
        </p:nvSpPr>
        <p:spPr>
          <a:xfrm flipH="1">
            <a:off x="696600" y="760320"/>
            <a:ext cx="12600" cy="359100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4" name="17 CuadroTexto"/>
          <p:cNvSpPr/>
          <p:nvPr/>
        </p:nvSpPr>
        <p:spPr>
          <a:xfrm>
            <a:off x="1479600" y="1773360"/>
            <a:ext cx="5699160" cy="348120"/>
          </a:xfrm>
          <a:prstGeom prst="rect">
            <a:avLst/>
          </a:prstGeom>
          <a:solidFill>
            <a:srgbClr val="ffaf73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AR" sz="1800" spc="-1" strike="noStrike">
                <a:solidFill>
                  <a:srgbClr val="1f6650"/>
                </a:solidFill>
                <a:latin typeface="Calibri"/>
              </a:rPr>
              <a:t>     </a:t>
            </a:r>
            <a:r>
              <a:rPr b="1" lang="es-AR" sz="1800" spc="-1" strike="noStrike">
                <a:solidFill>
                  <a:srgbClr val="445469"/>
                </a:solidFill>
                <a:latin typeface="Calibri"/>
              </a:rPr>
              <a:t>El proceso NO es automático y lo realiza cada UEPEX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5" name="16 CuadroTexto"/>
          <p:cNvSpPr/>
          <p:nvPr/>
        </p:nvSpPr>
        <p:spPr>
          <a:xfrm>
            <a:off x="1479600" y="2265480"/>
            <a:ext cx="714204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1 - Generar las Tablas Básicas del Ejercicio 202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200" spc="-1" strike="noStrike">
                <a:solidFill>
                  <a:srgbClr val="445469"/>
                </a:solidFill>
                <a:latin typeface="Calibri"/>
              </a:rPr>
              <a:t>	</a:t>
            </a:r>
            <a:r>
              <a:rPr b="0" lang="es-AR" sz="1600" spc="-1" strike="noStrike">
                <a:solidFill>
                  <a:srgbClr val="445469"/>
                </a:solidFill>
                <a:latin typeface="Calibri"/>
              </a:rPr>
              <a:t>(Herramientas  / Administrador/ Generar tablas básicas de un Nuevo Ejercicio)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26" name="Picture 11" descr=""/>
          <p:cNvPicPr/>
          <p:nvPr/>
        </p:nvPicPr>
        <p:blipFill>
          <a:blip r:embed="rId1"/>
          <a:stretch/>
        </p:blipFill>
        <p:spPr>
          <a:xfrm>
            <a:off x="2900520" y="3035160"/>
            <a:ext cx="33429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TextBox 5"/>
          <p:cNvSpPr/>
          <p:nvPr/>
        </p:nvSpPr>
        <p:spPr>
          <a:xfrm>
            <a:off x="298440" y="1364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AR" sz="1800" spc="-1" strike="noStrike">
                <a:solidFill>
                  <a:srgbClr val="2185c5"/>
                </a:solidFill>
                <a:latin typeface="Raleway"/>
                <a:ea typeface="Calibri lig"/>
              </a:rPr>
              <a:t>UEPEX – TALLER INICIO DE EJERCICIO 202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387360" y="509760"/>
            <a:ext cx="377640" cy="475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9" name="Freeform 133"/>
          <p:cNvSpPr/>
          <p:nvPr/>
        </p:nvSpPr>
        <p:spPr>
          <a:xfrm>
            <a:off x="925560" y="1303200"/>
            <a:ext cx="333360" cy="3351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61" h="561">
                <a:moveTo>
                  <a:pt x="461" y="0"/>
                </a:moveTo>
                <a:lnTo>
                  <a:pt x="461" y="0"/>
                </a:lnTo>
                <a:cubicBezTo>
                  <a:pt x="105" y="0"/>
                  <a:pt x="105" y="0"/>
                  <a:pt x="105" y="0"/>
                </a:cubicBezTo>
                <a:cubicBezTo>
                  <a:pt x="47" y="0"/>
                  <a:pt x="0" y="47"/>
                  <a:pt x="0" y="99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513"/>
                  <a:pt x="47" y="560"/>
                  <a:pt x="105" y="560"/>
                </a:cubicBezTo>
                <a:cubicBezTo>
                  <a:pt x="461" y="560"/>
                  <a:pt x="461" y="560"/>
                  <a:pt x="461" y="560"/>
                </a:cubicBezTo>
                <a:cubicBezTo>
                  <a:pt x="519" y="560"/>
                  <a:pt x="560" y="513"/>
                  <a:pt x="560" y="461"/>
                </a:cubicBezTo>
                <a:cubicBezTo>
                  <a:pt x="560" y="99"/>
                  <a:pt x="560" y="99"/>
                  <a:pt x="560" y="99"/>
                </a:cubicBezTo>
                <a:cubicBezTo>
                  <a:pt x="560" y="47"/>
                  <a:pt x="519" y="0"/>
                  <a:pt x="461" y="0"/>
                </a:cubicBezTo>
                <a:close/>
                <a:moveTo>
                  <a:pt x="461" y="210"/>
                </a:moveTo>
                <a:lnTo>
                  <a:pt x="461" y="210"/>
                </a:lnTo>
                <a:cubicBezTo>
                  <a:pt x="263" y="402"/>
                  <a:pt x="263" y="402"/>
                  <a:pt x="263" y="402"/>
                </a:cubicBezTo>
                <a:cubicBezTo>
                  <a:pt x="263" y="408"/>
                  <a:pt x="251" y="414"/>
                  <a:pt x="239" y="414"/>
                </a:cubicBezTo>
                <a:cubicBezTo>
                  <a:pt x="222" y="414"/>
                  <a:pt x="222" y="414"/>
                  <a:pt x="222" y="414"/>
                </a:cubicBezTo>
                <a:cubicBezTo>
                  <a:pt x="216" y="414"/>
                  <a:pt x="204" y="408"/>
                  <a:pt x="199" y="402"/>
                </a:cubicBezTo>
                <a:cubicBezTo>
                  <a:pt x="111" y="309"/>
                  <a:pt x="111" y="309"/>
                  <a:pt x="111" y="309"/>
                </a:cubicBezTo>
                <a:cubicBezTo>
                  <a:pt x="105" y="303"/>
                  <a:pt x="105" y="298"/>
                  <a:pt x="111" y="292"/>
                </a:cubicBezTo>
                <a:cubicBezTo>
                  <a:pt x="146" y="257"/>
                  <a:pt x="146" y="257"/>
                  <a:pt x="146" y="257"/>
                </a:cubicBezTo>
                <a:cubicBezTo>
                  <a:pt x="152" y="251"/>
                  <a:pt x="158" y="251"/>
                  <a:pt x="164" y="257"/>
                </a:cubicBezTo>
                <a:cubicBezTo>
                  <a:pt x="222" y="315"/>
                  <a:pt x="222" y="315"/>
                  <a:pt x="222" y="315"/>
                </a:cubicBezTo>
                <a:cubicBezTo>
                  <a:pt x="228" y="321"/>
                  <a:pt x="239" y="321"/>
                  <a:pt x="245" y="315"/>
                </a:cubicBezTo>
                <a:cubicBezTo>
                  <a:pt x="403" y="152"/>
                  <a:pt x="403" y="152"/>
                  <a:pt x="403" y="152"/>
                </a:cubicBezTo>
                <a:cubicBezTo>
                  <a:pt x="408" y="146"/>
                  <a:pt x="420" y="146"/>
                  <a:pt x="426" y="152"/>
                </a:cubicBezTo>
                <a:cubicBezTo>
                  <a:pt x="461" y="187"/>
                  <a:pt x="461" y="187"/>
                  <a:pt x="461" y="187"/>
                </a:cubicBezTo>
                <a:cubicBezTo>
                  <a:pt x="467" y="193"/>
                  <a:pt x="467" y="204"/>
                  <a:pt x="461" y="210"/>
                </a:cubicBezTo>
                <a:close/>
              </a:path>
            </a:pathLst>
          </a:custGeom>
          <a:solidFill>
            <a:srgbClr val="f77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0" name="Straight Connector 22"/>
          <p:cNvSpPr/>
          <p:nvPr/>
        </p:nvSpPr>
        <p:spPr>
          <a:xfrm flipH="1">
            <a:off x="696600" y="760320"/>
            <a:ext cx="12600" cy="359100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1" name="16 CuadroTexto"/>
          <p:cNvSpPr/>
          <p:nvPr/>
        </p:nvSpPr>
        <p:spPr>
          <a:xfrm>
            <a:off x="1479600" y="717480"/>
            <a:ext cx="714204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1800" spc="-1" strike="noStrike" u="sng">
                <a:solidFill>
                  <a:srgbClr val="445469"/>
                </a:solidFill>
                <a:uFillTx/>
                <a:latin typeface="Calibri"/>
              </a:rPr>
              <a:t>Funciones que se mantienen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Exportación de Saldos de contratos no devengados al 31/12/2022.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Exportación de saldos de Contratos Plurianuales.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Réplica de compromisos al siguiente ejercicio.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1800" spc="-1" strike="noStrike">
                <a:solidFill>
                  <a:srgbClr val="445469"/>
                </a:solidFill>
                <a:latin typeface="Calibri"/>
                <a:ea typeface="Open Sans"/>
              </a:rPr>
              <a:t>Pago de Deuda Exigible.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2" name="Freeform 133"/>
          <p:cNvSpPr/>
          <p:nvPr/>
        </p:nvSpPr>
        <p:spPr>
          <a:xfrm>
            <a:off x="925560" y="2954160"/>
            <a:ext cx="333360" cy="3351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61" h="561">
                <a:moveTo>
                  <a:pt x="461" y="0"/>
                </a:moveTo>
                <a:lnTo>
                  <a:pt x="461" y="0"/>
                </a:lnTo>
                <a:cubicBezTo>
                  <a:pt x="105" y="0"/>
                  <a:pt x="105" y="0"/>
                  <a:pt x="105" y="0"/>
                </a:cubicBezTo>
                <a:cubicBezTo>
                  <a:pt x="47" y="0"/>
                  <a:pt x="0" y="47"/>
                  <a:pt x="0" y="99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513"/>
                  <a:pt x="47" y="560"/>
                  <a:pt x="105" y="560"/>
                </a:cubicBezTo>
                <a:cubicBezTo>
                  <a:pt x="461" y="560"/>
                  <a:pt x="461" y="560"/>
                  <a:pt x="461" y="560"/>
                </a:cubicBezTo>
                <a:cubicBezTo>
                  <a:pt x="519" y="560"/>
                  <a:pt x="560" y="513"/>
                  <a:pt x="560" y="461"/>
                </a:cubicBezTo>
                <a:cubicBezTo>
                  <a:pt x="560" y="99"/>
                  <a:pt x="560" y="99"/>
                  <a:pt x="560" y="99"/>
                </a:cubicBezTo>
                <a:cubicBezTo>
                  <a:pt x="560" y="47"/>
                  <a:pt x="519" y="0"/>
                  <a:pt x="461" y="0"/>
                </a:cubicBezTo>
                <a:close/>
                <a:moveTo>
                  <a:pt x="461" y="210"/>
                </a:moveTo>
                <a:lnTo>
                  <a:pt x="461" y="210"/>
                </a:lnTo>
                <a:cubicBezTo>
                  <a:pt x="263" y="402"/>
                  <a:pt x="263" y="402"/>
                  <a:pt x="263" y="402"/>
                </a:cubicBezTo>
                <a:cubicBezTo>
                  <a:pt x="263" y="408"/>
                  <a:pt x="251" y="414"/>
                  <a:pt x="239" y="414"/>
                </a:cubicBezTo>
                <a:cubicBezTo>
                  <a:pt x="222" y="414"/>
                  <a:pt x="222" y="414"/>
                  <a:pt x="222" y="414"/>
                </a:cubicBezTo>
                <a:cubicBezTo>
                  <a:pt x="216" y="414"/>
                  <a:pt x="204" y="408"/>
                  <a:pt x="199" y="402"/>
                </a:cubicBezTo>
                <a:cubicBezTo>
                  <a:pt x="111" y="309"/>
                  <a:pt x="111" y="309"/>
                  <a:pt x="111" y="309"/>
                </a:cubicBezTo>
                <a:cubicBezTo>
                  <a:pt x="105" y="303"/>
                  <a:pt x="105" y="298"/>
                  <a:pt x="111" y="292"/>
                </a:cubicBezTo>
                <a:cubicBezTo>
                  <a:pt x="146" y="257"/>
                  <a:pt x="146" y="257"/>
                  <a:pt x="146" y="257"/>
                </a:cubicBezTo>
                <a:cubicBezTo>
                  <a:pt x="152" y="251"/>
                  <a:pt x="158" y="251"/>
                  <a:pt x="164" y="257"/>
                </a:cubicBezTo>
                <a:cubicBezTo>
                  <a:pt x="222" y="315"/>
                  <a:pt x="222" y="315"/>
                  <a:pt x="222" y="315"/>
                </a:cubicBezTo>
                <a:cubicBezTo>
                  <a:pt x="228" y="321"/>
                  <a:pt x="239" y="321"/>
                  <a:pt x="245" y="315"/>
                </a:cubicBezTo>
                <a:cubicBezTo>
                  <a:pt x="403" y="152"/>
                  <a:pt x="403" y="152"/>
                  <a:pt x="403" y="152"/>
                </a:cubicBezTo>
                <a:cubicBezTo>
                  <a:pt x="408" y="146"/>
                  <a:pt x="420" y="146"/>
                  <a:pt x="426" y="152"/>
                </a:cubicBezTo>
                <a:cubicBezTo>
                  <a:pt x="461" y="187"/>
                  <a:pt x="461" y="187"/>
                  <a:pt x="461" y="187"/>
                </a:cubicBezTo>
                <a:cubicBezTo>
                  <a:pt x="467" y="193"/>
                  <a:pt x="467" y="204"/>
                  <a:pt x="461" y="210"/>
                </a:cubicBezTo>
                <a:close/>
              </a:path>
            </a:pathLst>
          </a:custGeom>
          <a:solidFill>
            <a:srgbClr val="44c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3" name="Freeform 133"/>
          <p:cNvSpPr/>
          <p:nvPr/>
        </p:nvSpPr>
        <p:spPr>
          <a:xfrm>
            <a:off x="925560" y="213984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561" h="561">
                <a:moveTo>
                  <a:pt x="461" y="0"/>
                </a:moveTo>
                <a:lnTo>
                  <a:pt x="461" y="0"/>
                </a:lnTo>
                <a:cubicBezTo>
                  <a:pt x="105" y="0"/>
                  <a:pt x="105" y="0"/>
                  <a:pt x="105" y="0"/>
                </a:cubicBezTo>
                <a:cubicBezTo>
                  <a:pt x="47" y="0"/>
                  <a:pt x="0" y="47"/>
                  <a:pt x="0" y="99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513"/>
                  <a:pt x="47" y="560"/>
                  <a:pt x="105" y="560"/>
                </a:cubicBezTo>
                <a:cubicBezTo>
                  <a:pt x="461" y="560"/>
                  <a:pt x="461" y="560"/>
                  <a:pt x="461" y="560"/>
                </a:cubicBezTo>
                <a:cubicBezTo>
                  <a:pt x="519" y="560"/>
                  <a:pt x="560" y="513"/>
                  <a:pt x="560" y="461"/>
                </a:cubicBezTo>
                <a:cubicBezTo>
                  <a:pt x="560" y="99"/>
                  <a:pt x="560" y="99"/>
                  <a:pt x="560" y="99"/>
                </a:cubicBezTo>
                <a:cubicBezTo>
                  <a:pt x="560" y="47"/>
                  <a:pt x="519" y="0"/>
                  <a:pt x="461" y="0"/>
                </a:cubicBezTo>
                <a:close/>
                <a:moveTo>
                  <a:pt x="461" y="210"/>
                </a:moveTo>
                <a:lnTo>
                  <a:pt x="461" y="210"/>
                </a:lnTo>
                <a:cubicBezTo>
                  <a:pt x="263" y="402"/>
                  <a:pt x="263" y="402"/>
                  <a:pt x="263" y="402"/>
                </a:cubicBezTo>
                <a:cubicBezTo>
                  <a:pt x="263" y="408"/>
                  <a:pt x="251" y="414"/>
                  <a:pt x="239" y="414"/>
                </a:cubicBezTo>
                <a:cubicBezTo>
                  <a:pt x="222" y="414"/>
                  <a:pt x="222" y="414"/>
                  <a:pt x="222" y="414"/>
                </a:cubicBezTo>
                <a:cubicBezTo>
                  <a:pt x="216" y="414"/>
                  <a:pt x="204" y="408"/>
                  <a:pt x="199" y="402"/>
                </a:cubicBezTo>
                <a:cubicBezTo>
                  <a:pt x="111" y="309"/>
                  <a:pt x="111" y="309"/>
                  <a:pt x="111" y="309"/>
                </a:cubicBezTo>
                <a:cubicBezTo>
                  <a:pt x="105" y="303"/>
                  <a:pt x="105" y="298"/>
                  <a:pt x="111" y="292"/>
                </a:cubicBezTo>
                <a:cubicBezTo>
                  <a:pt x="146" y="257"/>
                  <a:pt x="146" y="257"/>
                  <a:pt x="146" y="257"/>
                </a:cubicBezTo>
                <a:cubicBezTo>
                  <a:pt x="152" y="251"/>
                  <a:pt x="158" y="251"/>
                  <a:pt x="164" y="257"/>
                </a:cubicBezTo>
                <a:cubicBezTo>
                  <a:pt x="222" y="315"/>
                  <a:pt x="222" y="315"/>
                  <a:pt x="222" y="315"/>
                </a:cubicBezTo>
                <a:cubicBezTo>
                  <a:pt x="228" y="321"/>
                  <a:pt x="239" y="321"/>
                  <a:pt x="245" y="315"/>
                </a:cubicBezTo>
                <a:cubicBezTo>
                  <a:pt x="403" y="152"/>
                  <a:pt x="403" y="152"/>
                  <a:pt x="403" y="152"/>
                </a:cubicBezTo>
                <a:cubicBezTo>
                  <a:pt x="408" y="146"/>
                  <a:pt x="420" y="146"/>
                  <a:pt x="426" y="152"/>
                </a:cubicBezTo>
                <a:cubicBezTo>
                  <a:pt x="461" y="187"/>
                  <a:pt x="461" y="187"/>
                  <a:pt x="461" y="187"/>
                </a:cubicBezTo>
                <a:cubicBezTo>
                  <a:pt x="467" y="193"/>
                  <a:pt x="467" y="204"/>
                  <a:pt x="461" y="210"/>
                </a:cubicBezTo>
                <a:close/>
              </a:path>
            </a:pathLst>
          </a:custGeom>
          <a:solidFill>
            <a:srgbClr val="e43d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4" name="Freeform 133"/>
          <p:cNvSpPr/>
          <p:nvPr/>
        </p:nvSpPr>
        <p:spPr>
          <a:xfrm>
            <a:off x="925560" y="3720960"/>
            <a:ext cx="333360" cy="3351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61" h="561">
                <a:moveTo>
                  <a:pt x="461" y="0"/>
                </a:moveTo>
                <a:lnTo>
                  <a:pt x="461" y="0"/>
                </a:lnTo>
                <a:cubicBezTo>
                  <a:pt x="105" y="0"/>
                  <a:pt x="105" y="0"/>
                  <a:pt x="105" y="0"/>
                </a:cubicBezTo>
                <a:cubicBezTo>
                  <a:pt x="47" y="0"/>
                  <a:pt x="0" y="47"/>
                  <a:pt x="0" y="99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513"/>
                  <a:pt x="47" y="560"/>
                  <a:pt x="105" y="560"/>
                </a:cubicBezTo>
                <a:cubicBezTo>
                  <a:pt x="461" y="560"/>
                  <a:pt x="461" y="560"/>
                  <a:pt x="461" y="560"/>
                </a:cubicBezTo>
                <a:cubicBezTo>
                  <a:pt x="519" y="560"/>
                  <a:pt x="560" y="513"/>
                  <a:pt x="560" y="461"/>
                </a:cubicBezTo>
                <a:cubicBezTo>
                  <a:pt x="560" y="99"/>
                  <a:pt x="560" y="99"/>
                  <a:pt x="560" y="99"/>
                </a:cubicBezTo>
                <a:cubicBezTo>
                  <a:pt x="560" y="47"/>
                  <a:pt x="519" y="0"/>
                  <a:pt x="461" y="0"/>
                </a:cubicBezTo>
                <a:close/>
                <a:moveTo>
                  <a:pt x="461" y="210"/>
                </a:moveTo>
                <a:lnTo>
                  <a:pt x="461" y="210"/>
                </a:lnTo>
                <a:cubicBezTo>
                  <a:pt x="263" y="402"/>
                  <a:pt x="263" y="402"/>
                  <a:pt x="263" y="402"/>
                </a:cubicBezTo>
                <a:cubicBezTo>
                  <a:pt x="263" y="408"/>
                  <a:pt x="251" y="414"/>
                  <a:pt x="239" y="414"/>
                </a:cubicBezTo>
                <a:cubicBezTo>
                  <a:pt x="222" y="414"/>
                  <a:pt x="222" y="414"/>
                  <a:pt x="222" y="414"/>
                </a:cubicBezTo>
                <a:cubicBezTo>
                  <a:pt x="216" y="414"/>
                  <a:pt x="204" y="408"/>
                  <a:pt x="199" y="402"/>
                </a:cubicBezTo>
                <a:cubicBezTo>
                  <a:pt x="111" y="309"/>
                  <a:pt x="111" y="309"/>
                  <a:pt x="111" y="309"/>
                </a:cubicBezTo>
                <a:cubicBezTo>
                  <a:pt x="105" y="303"/>
                  <a:pt x="105" y="298"/>
                  <a:pt x="111" y="292"/>
                </a:cubicBezTo>
                <a:cubicBezTo>
                  <a:pt x="146" y="257"/>
                  <a:pt x="146" y="257"/>
                  <a:pt x="146" y="257"/>
                </a:cubicBezTo>
                <a:cubicBezTo>
                  <a:pt x="152" y="251"/>
                  <a:pt x="158" y="251"/>
                  <a:pt x="164" y="257"/>
                </a:cubicBezTo>
                <a:cubicBezTo>
                  <a:pt x="222" y="315"/>
                  <a:pt x="222" y="315"/>
                  <a:pt x="222" y="315"/>
                </a:cubicBezTo>
                <a:cubicBezTo>
                  <a:pt x="228" y="321"/>
                  <a:pt x="239" y="321"/>
                  <a:pt x="245" y="315"/>
                </a:cubicBezTo>
                <a:cubicBezTo>
                  <a:pt x="403" y="152"/>
                  <a:pt x="403" y="152"/>
                  <a:pt x="403" y="152"/>
                </a:cubicBezTo>
                <a:cubicBezTo>
                  <a:pt x="408" y="146"/>
                  <a:pt x="420" y="146"/>
                  <a:pt x="426" y="152"/>
                </a:cubicBezTo>
                <a:cubicBezTo>
                  <a:pt x="461" y="187"/>
                  <a:pt x="461" y="187"/>
                  <a:pt x="461" y="187"/>
                </a:cubicBezTo>
                <a:cubicBezTo>
                  <a:pt x="467" y="193"/>
                  <a:pt x="467" y="204"/>
                  <a:pt x="461" y="21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TextBox 5"/>
          <p:cNvSpPr/>
          <p:nvPr/>
        </p:nvSpPr>
        <p:spPr>
          <a:xfrm>
            <a:off x="298440" y="1364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AR" sz="1800" spc="-1" strike="noStrike">
                <a:solidFill>
                  <a:srgbClr val="2185c5"/>
                </a:solidFill>
                <a:latin typeface="Raleway"/>
                <a:ea typeface="Calibri lig"/>
              </a:rPr>
              <a:t>UEPEX – TALLER INICIO DE EJERCICIO 202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6" name="Rectangle 8"/>
          <p:cNvSpPr/>
          <p:nvPr/>
        </p:nvSpPr>
        <p:spPr>
          <a:xfrm>
            <a:off x="387360" y="509760"/>
            <a:ext cx="377640" cy="475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7" name="Freeform 133"/>
          <p:cNvSpPr/>
          <p:nvPr/>
        </p:nvSpPr>
        <p:spPr>
          <a:xfrm>
            <a:off x="925560" y="1378080"/>
            <a:ext cx="333360" cy="334800"/>
          </a:xfrm>
          <a:custGeom>
            <a:avLst/>
            <a:gdLst>
              <a:gd name="textAreaLeft" fmla="*/ 0 w 333360"/>
              <a:gd name="textAreaRight" fmla="*/ 333720 w 333360"/>
              <a:gd name="textAreaTop" fmla="*/ 0 h 334800"/>
              <a:gd name="textAreaBottom" fmla="*/ 334800 h 334800"/>
            </a:gdLst>
            <a:ahLst/>
            <a:rect l="textAreaLeft" t="textAreaTop" r="textAreaRight" b="textAreaBottom"/>
            <a:pathLst>
              <a:path w="561" h="561">
                <a:moveTo>
                  <a:pt x="461" y="0"/>
                </a:moveTo>
                <a:lnTo>
                  <a:pt x="461" y="0"/>
                </a:lnTo>
                <a:cubicBezTo>
                  <a:pt x="105" y="0"/>
                  <a:pt x="105" y="0"/>
                  <a:pt x="105" y="0"/>
                </a:cubicBezTo>
                <a:cubicBezTo>
                  <a:pt x="47" y="0"/>
                  <a:pt x="0" y="47"/>
                  <a:pt x="0" y="99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513"/>
                  <a:pt x="47" y="560"/>
                  <a:pt x="105" y="560"/>
                </a:cubicBezTo>
                <a:cubicBezTo>
                  <a:pt x="461" y="560"/>
                  <a:pt x="461" y="560"/>
                  <a:pt x="461" y="560"/>
                </a:cubicBezTo>
                <a:cubicBezTo>
                  <a:pt x="519" y="560"/>
                  <a:pt x="560" y="513"/>
                  <a:pt x="560" y="461"/>
                </a:cubicBezTo>
                <a:cubicBezTo>
                  <a:pt x="560" y="99"/>
                  <a:pt x="560" y="99"/>
                  <a:pt x="560" y="99"/>
                </a:cubicBezTo>
                <a:cubicBezTo>
                  <a:pt x="560" y="47"/>
                  <a:pt x="519" y="0"/>
                  <a:pt x="461" y="0"/>
                </a:cubicBezTo>
                <a:close/>
                <a:moveTo>
                  <a:pt x="461" y="210"/>
                </a:moveTo>
                <a:lnTo>
                  <a:pt x="461" y="210"/>
                </a:lnTo>
                <a:cubicBezTo>
                  <a:pt x="263" y="402"/>
                  <a:pt x="263" y="402"/>
                  <a:pt x="263" y="402"/>
                </a:cubicBezTo>
                <a:cubicBezTo>
                  <a:pt x="263" y="408"/>
                  <a:pt x="251" y="414"/>
                  <a:pt x="239" y="414"/>
                </a:cubicBezTo>
                <a:cubicBezTo>
                  <a:pt x="222" y="414"/>
                  <a:pt x="222" y="414"/>
                  <a:pt x="222" y="414"/>
                </a:cubicBezTo>
                <a:cubicBezTo>
                  <a:pt x="216" y="414"/>
                  <a:pt x="204" y="408"/>
                  <a:pt x="199" y="402"/>
                </a:cubicBezTo>
                <a:cubicBezTo>
                  <a:pt x="111" y="309"/>
                  <a:pt x="111" y="309"/>
                  <a:pt x="111" y="309"/>
                </a:cubicBezTo>
                <a:cubicBezTo>
                  <a:pt x="105" y="303"/>
                  <a:pt x="105" y="298"/>
                  <a:pt x="111" y="292"/>
                </a:cubicBezTo>
                <a:cubicBezTo>
                  <a:pt x="146" y="257"/>
                  <a:pt x="146" y="257"/>
                  <a:pt x="146" y="257"/>
                </a:cubicBezTo>
                <a:cubicBezTo>
                  <a:pt x="152" y="251"/>
                  <a:pt x="158" y="251"/>
                  <a:pt x="164" y="257"/>
                </a:cubicBezTo>
                <a:cubicBezTo>
                  <a:pt x="222" y="315"/>
                  <a:pt x="222" y="315"/>
                  <a:pt x="222" y="315"/>
                </a:cubicBezTo>
                <a:cubicBezTo>
                  <a:pt x="228" y="321"/>
                  <a:pt x="239" y="321"/>
                  <a:pt x="245" y="315"/>
                </a:cubicBezTo>
                <a:cubicBezTo>
                  <a:pt x="403" y="152"/>
                  <a:pt x="403" y="152"/>
                  <a:pt x="403" y="152"/>
                </a:cubicBezTo>
                <a:cubicBezTo>
                  <a:pt x="408" y="146"/>
                  <a:pt x="420" y="146"/>
                  <a:pt x="426" y="152"/>
                </a:cubicBezTo>
                <a:cubicBezTo>
                  <a:pt x="461" y="187"/>
                  <a:pt x="461" y="187"/>
                  <a:pt x="461" y="187"/>
                </a:cubicBezTo>
                <a:cubicBezTo>
                  <a:pt x="467" y="193"/>
                  <a:pt x="467" y="204"/>
                  <a:pt x="461" y="210"/>
                </a:cubicBezTo>
                <a:close/>
              </a:path>
            </a:pathLst>
          </a:custGeom>
          <a:solidFill>
            <a:srgbClr val="44c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8" name="Freeform 133"/>
          <p:cNvSpPr/>
          <p:nvPr/>
        </p:nvSpPr>
        <p:spPr>
          <a:xfrm>
            <a:off x="925560" y="2479680"/>
            <a:ext cx="333360" cy="334800"/>
          </a:xfrm>
          <a:custGeom>
            <a:avLst/>
            <a:gdLst>
              <a:gd name="textAreaLeft" fmla="*/ 0 w 333360"/>
              <a:gd name="textAreaRight" fmla="*/ 333720 w 333360"/>
              <a:gd name="textAreaTop" fmla="*/ 0 h 334800"/>
              <a:gd name="textAreaBottom" fmla="*/ 334800 h 334800"/>
            </a:gdLst>
            <a:ahLst/>
            <a:rect l="textAreaLeft" t="textAreaTop" r="textAreaRight" b="textAreaBottom"/>
            <a:pathLst>
              <a:path w="561" h="561">
                <a:moveTo>
                  <a:pt x="461" y="0"/>
                </a:moveTo>
                <a:lnTo>
                  <a:pt x="461" y="0"/>
                </a:lnTo>
                <a:cubicBezTo>
                  <a:pt x="105" y="0"/>
                  <a:pt x="105" y="0"/>
                  <a:pt x="105" y="0"/>
                </a:cubicBezTo>
                <a:cubicBezTo>
                  <a:pt x="47" y="0"/>
                  <a:pt x="0" y="47"/>
                  <a:pt x="0" y="99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513"/>
                  <a:pt x="47" y="560"/>
                  <a:pt x="105" y="560"/>
                </a:cubicBezTo>
                <a:cubicBezTo>
                  <a:pt x="461" y="560"/>
                  <a:pt x="461" y="560"/>
                  <a:pt x="461" y="560"/>
                </a:cubicBezTo>
                <a:cubicBezTo>
                  <a:pt x="519" y="560"/>
                  <a:pt x="560" y="513"/>
                  <a:pt x="560" y="461"/>
                </a:cubicBezTo>
                <a:cubicBezTo>
                  <a:pt x="560" y="99"/>
                  <a:pt x="560" y="99"/>
                  <a:pt x="560" y="99"/>
                </a:cubicBezTo>
                <a:cubicBezTo>
                  <a:pt x="560" y="47"/>
                  <a:pt x="519" y="0"/>
                  <a:pt x="461" y="0"/>
                </a:cubicBezTo>
                <a:close/>
                <a:moveTo>
                  <a:pt x="461" y="210"/>
                </a:moveTo>
                <a:lnTo>
                  <a:pt x="461" y="210"/>
                </a:lnTo>
                <a:cubicBezTo>
                  <a:pt x="263" y="402"/>
                  <a:pt x="263" y="402"/>
                  <a:pt x="263" y="402"/>
                </a:cubicBezTo>
                <a:cubicBezTo>
                  <a:pt x="263" y="408"/>
                  <a:pt x="251" y="414"/>
                  <a:pt x="239" y="414"/>
                </a:cubicBezTo>
                <a:cubicBezTo>
                  <a:pt x="222" y="414"/>
                  <a:pt x="222" y="414"/>
                  <a:pt x="222" y="414"/>
                </a:cubicBezTo>
                <a:cubicBezTo>
                  <a:pt x="216" y="414"/>
                  <a:pt x="204" y="408"/>
                  <a:pt x="199" y="402"/>
                </a:cubicBezTo>
                <a:cubicBezTo>
                  <a:pt x="111" y="309"/>
                  <a:pt x="111" y="309"/>
                  <a:pt x="111" y="309"/>
                </a:cubicBezTo>
                <a:cubicBezTo>
                  <a:pt x="105" y="303"/>
                  <a:pt x="105" y="298"/>
                  <a:pt x="111" y="292"/>
                </a:cubicBezTo>
                <a:cubicBezTo>
                  <a:pt x="146" y="257"/>
                  <a:pt x="146" y="257"/>
                  <a:pt x="146" y="257"/>
                </a:cubicBezTo>
                <a:cubicBezTo>
                  <a:pt x="152" y="251"/>
                  <a:pt x="158" y="251"/>
                  <a:pt x="164" y="257"/>
                </a:cubicBezTo>
                <a:cubicBezTo>
                  <a:pt x="222" y="315"/>
                  <a:pt x="222" y="315"/>
                  <a:pt x="222" y="315"/>
                </a:cubicBezTo>
                <a:cubicBezTo>
                  <a:pt x="228" y="321"/>
                  <a:pt x="239" y="321"/>
                  <a:pt x="245" y="315"/>
                </a:cubicBezTo>
                <a:cubicBezTo>
                  <a:pt x="403" y="152"/>
                  <a:pt x="403" y="152"/>
                  <a:pt x="403" y="152"/>
                </a:cubicBezTo>
                <a:cubicBezTo>
                  <a:pt x="408" y="146"/>
                  <a:pt x="420" y="146"/>
                  <a:pt x="426" y="152"/>
                </a:cubicBezTo>
                <a:cubicBezTo>
                  <a:pt x="461" y="187"/>
                  <a:pt x="461" y="187"/>
                  <a:pt x="461" y="187"/>
                </a:cubicBezTo>
                <a:cubicBezTo>
                  <a:pt x="467" y="193"/>
                  <a:pt x="467" y="204"/>
                  <a:pt x="461" y="210"/>
                </a:cubicBezTo>
                <a:close/>
              </a:path>
            </a:pathLst>
          </a:custGeom>
          <a:solidFill>
            <a:srgbClr val="f77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9" name="Rectangle 5"/>
          <p:cNvSpPr/>
          <p:nvPr/>
        </p:nvSpPr>
        <p:spPr>
          <a:xfrm>
            <a:off x="1365120" y="73656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IMPORTANTE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1800" spc="-1" strike="noStrike">
                <a:solidFill>
                  <a:srgbClr val="445469"/>
                </a:solidFill>
                <a:latin typeface="Calibri"/>
                <a:ea typeface="Open Sans"/>
              </a:rPr>
              <a:t>Fecha de inicio de gestión:</a:t>
            </a:r>
            <a:r>
              <a:rPr b="0" lang="es-ES" sz="1800" spc="-1" strike="noStrike">
                <a:solidFill>
                  <a:srgbClr val="445469"/>
                </a:solidFill>
                <a:latin typeface="Calibri"/>
                <a:ea typeface="Open Sans"/>
              </a:rPr>
              <a:t>	</a:t>
            </a:r>
            <a:r>
              <a:rPr b="0" lang="es-ES" sz="1800" spc="-1" strike="noStrike">
                <a:solidFill>
                  <a:srgbClr val="445469"/>
                </a:solidFill>
                <a:latin typeface="Calibri"/>
                <a:ea typeface="Open Sans"/>
              </a:rPr>
              <a:t>cuando esté aplicada la Decisión Administrativa.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1800" spc="-1" strike="noStrike">
                <a:solidFill>
                  <a:srgbClr val="445469"/>
                </a:solidFill>
                <a:latin typeface="Calibri"/>
                <a:ea typeface="Open Sans"/>
              </a:rPr>
              <a:t>A partir del presupuesto 2023, se reemplaza el Objeto del Gasto 3.4.9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1800" spc="-1" strike="noStrike">
                <a:solidFill>
                  <a:srgbClr val="445469"/>
                </a:solidFill>
                <a:latin typeface="Calibri"/>
                <a:ea typeface="Open Sans"/>
              </a:rPr>
              <a:t>por el 1.8.7, por lo tanto deberán dar de alta un nuevo insumo que se vinculará al nuevo objeto del gasto (Codificaciones / Insumos).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0" name="Straight Connector 22"/>
          <p:cNvSpPr/>
          <p:nvPr/>
        </p:nvSpPr>
        <p:spPr>
          <a:xfrm flipH="1">
            <a:off x="696600" y="760320"/>
            <a:ext cx="12600" cy="359100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TextBox 5"/>
          <p:cNvSpPr/>
          <p:nvPr/>
        </p:nvSpPr>
        <p:spPr>
          <a:xfrm>
            <a:off x="298440" y="1364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AR" sz="1800" spc="-1" strike="noStrike">
                <a:solidFill>
                  <a:srgbClr val="2185c5"/>
                </a:solidFill>
                <a:latin typeface="Raleway"/>
                <a:ea typeface="Calibri lig"/>
              </a:rPr>
              <a:t>UEPEX – TALLER INICIO DE EJERCICIO 202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2" name="Rectangle 8"/>
          <p:cNvSpPr/>
          <p:nvPr/>
        </p:nvSpPr>
        <p:spPr>
          <a:xfrm>
            <a:off x="387360" y="509760"/>
            <a:ext cx="377640" cy="475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3" name="Freeform 133"/>
          <p:cNvSpPr/>
          <p:nvPr/>
        </p:nvSpPr>
        <p:spPr>
          <a:xfrm>
            <a:off x="925560" y="789120"/>
            <a:ext cx="333360" cy="334800"/>
          </a:xfrm>
          <a:custGeom>
            <a:avLst/>
            <a:gdLst>
              <a:gd name="textAreaLeft" fmla="*/ 0 w 333360"/>
              <a:gd name="textAreaRight" fmla="*/ 333720 w 333360"/>
              <a:gd name="textAreaTop" fmla="*/ 0 h 334800"/>
              <a:gd name="textAreaBottom" fmla="*/ 334800 h 334800"/>
            </a:gdLst>
            <a:ahLst/>
            <a:rect l="textAreaLeft" t="textAreaTop" r="textAreaRight" b="textAreaBottom"/>
            <a:pathLst>
              <a:path w="561" h="561">
                <a:moveTo>
                  <a:pt x="461" y="0"/>
                </a:moveTo>
                <a:lnTo>
                  <a:pt x="461" y="0"/>
                </a:lnTo>
                <a:cubicBezTo>
                  <a:pt x="105" y="0"/>
                  <a:pt x="105" y="0"/>
                  <a:pt x="105" y="0"/>
                </a:cubicBezTo>
                <a:cubicBezTo>
                  <a:pt x="47" y="0"/>
                  <a:pt x="0" y="47"/>
                  <a:pt x="0" y="99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513"/>
                  <a:pt x="47" y="560"/>
                  <a:pt x="105" y="560"/>
                </a:cubicBezTo>
                <a:cubicBezTo>
                  <a:pt x="461" y="560"/>
                  <a:pt x="461" y="560"/>
                  <a:pt x="461" y="560"/>
                </a:cubicBezTo>
                <a:cubicBezTo>
                  <a:pt x="519" y="560"/>
                  <a:pt x="560" y="513"/>
                  <a:pt x="560" y="461"/>
                </a:cubicBezTo>
                <a:cubicBezTo>
                  <a:pt x="560" y="99"/>
                  <a:pt x="560" y="99"/>
                  <a:pt x="560" y="99"/>
                </a:cubicBezTo>
                <a:cubicBezTo>
                  <a:pt x="560" y="47"/>
                  <a:pt x="519" y="0"/>
                  <a:pt x="461" y="0"/>
                </a:cubicBezTo>
                <a:close/>
                <a:moveTo>
                  <a:pt x="461" y="210"/>
                </a:moveTo>
                <a:lnTo>
                  <a:pt x="461" y="210"/>
                </a:lnTo>
                <a:cubicBezTo>
                  <a:pt x="263" y="402"/>
                  <a:pt x="263" y="402"/>
                  <a:pt x="263" y="402"/>
                </a:cubicBezTo>
                <a:cubicBezTo>
                  <a:pt x="263" y="408"/>
                  <a:pt x="251" y="414"/>
                  <a:pt x="239" y="414"/>
                </a:cubicBezTo>
                <a:cubicBezTo>
                  <a:pt x="222" y="414"/>
                  <a:pt x="222" y="414"/>
                  <a:pt x="222" y="414"/>
                </a:cubicBezTo>
                <a:cubicBezTo>
                  <a:pt x="216" y="414"/>
                  <a:pt x="204" y="408"/>
                  <a:pt x="199" y="402"/>
                </a:cubicBezTo>
                <a:cubicBezTo>
                  <a:pt x="111" y="309"/>
                  <a:pt x="111" y="309"/>
                  <a:pt x="111" y="309"/>
                </a:cubicBezTo>
                <a:cubicBezTo>
                  <a:pt x="105" y="303"/>
                  <a:pt x="105" y="298"/>
                  <a:pt x="111" y="292"/>
                </a:cubicBezTo>
                <a:cubicBezTo>
                  <a:pt x="146" y="257"/>
                  <a:pt x="146" y="257"/>
                  <a:pt x="146" y="257"/>
                </a:cubicBezTo>
                <a:cubicBezTo>
                  <a:pt x="152" y="251"/>
                  <a:pt x="158" y="251"/>
                  <a:pt x="164" y="257"/>
                </a:cubicBezTo>
                <a:cubicBezTo>
                  <a:pt x="222" y="315"/>
                  <a:pt x="222" y="315"/>
                  <a:pt x="222" y="315"/>
                </a:cubicBezTo>
                <a:cubicBezTo>
                  <a:pt x="228" y="321"/>
                  <a:pt x="239" y="321"/>
                  <a:pt x="245" y="315"/>
                </a:cubicBezTo>
                <a:cubicBezTo>
                  <a:pt x="403" y="152"/>
                  <a:pt x="403" y="152"/>
                  <a:pt x="403" y="152"/>
                </a:cubicBezTo>
                <a:cubicBezTo>
                  <a:pt x="408" y="146"/>
                  <a:pt x="420" y="146"/>
                  <a:pt x="426" y="152"/>
                </a:cubicBezTo>
                <a:cubicBezTo>
                  <a:pt x="461" y="187"/>
                  <a:pt x="461" y="187"/>
                  <a:pt x="461" y="187"/>
                </a:cubicBezTo>
                <a:cubicBezTo>
                  <a:pt x="467" y="193"/>
                  <a:pt x="467" y="204"/>
                  <a:pt x="461" y="21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4" name="13 CuadroTexto"/>
          <p:cNvSpPr/>
          <p:nvPr/>
        </p:nvSpPr>
        <p:spPr>
          <a:xfrm>
            <a:off x="1492200" y="3414600"/>
            <a:ext cx="509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El Instructivo de Redmine se encuentra publicado en: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5" name="15 Rectángulo"/>
          <p:cNvSpPr/>
          <p:nvPr/>
        </p:nvSpPr>
        <p:spPr>
          <a:xfrm>
            <a:off x="1460520" y="3846600"/>
            <a:ext cx="78008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https://www.argentina.gob.ar/economia/sechacienda/dgsiaf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Arial"/>
              </a:rPr>
              <a:t>Documento:  Instructivo para usuarios – Redmine DGSIAF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6" name="Straight Connector 22"/>
          <p:cNvSpPr/>
          <p:nvPr/>
        </p:nvSpPr>
        <p:spPr>
          <a:xfrm flipH="1">
            <a:off x="696600" y="760320"/>
            <a:ext cx="12600" cy="359100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7" name="16 CuadroTexto"/>
          <p:cNvSpPr/>
          <p:nvPr/>
        </p:nvSpPr>
        <p:spPr>
          <a:xfrm>
            <a:off x="1479600" y="762120"/>
            <a:ext cx="658188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marL="290520" indent="-290520"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1800" spc="-1" strike="noStrike" u="sng">
                <a:solidFill>
                  <a:srgbClr val="445469"/>
                </a:solidFill>
                <a:uFillTx/>
                <a:latin typeface="Arial"/>
              </a:rPr>
              <a:t>Nueva Aplicación:  Redmine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Redmine DGSIAF es la aplicación web del Centro de Atención 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Usuarios de la DGSIAF desde la que podrás: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buClr>
                <a:srgbClr val="445469"/>
              </a:buClr>
              <a:buFont typeface="Arial"/>
              <a:buChar char="•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Enviarnos tus consultas y sugerencias vinculadas con el uso de los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  </a:t>
            </a: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Sistemas de Administración Financiera, a través del registro de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AR" sz="1800" spc="-1" strike="noStrike">
                <a:solidFill>
                  <a:srgbClr val="445469"/>
                </a:solidFill>
                <a:latin typeface="Calibri"/>
              </a:rPr>
              <a:t>  </a:t>
            </a:r>
            <a:r>
              <a:rPr b="1" lang="es-AR" sz="1800" spc="-1" strike="noStrike">
                <a:solidFill>
                  <a:srgbClr val="445469"/>
                </a:solidFill>
                <a:latin typeface="Calibri"/>
              </a:rPr>
              <a:t>Peticiones</a:t>
            </a: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 que vas a poder crear y consultar.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buClr>
                <a:srgbClr val="445469"/>
              </a:buClr>
              <a:buFont typeface="Arial"/>
              <a:buChar char="•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Conocer el avance y las novedades relacionadas con las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  </a:t>
            </a: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mismas.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TextBox 5"/>
          <p:cNvSpPr/>
          <p:nvPr/>
        </p:nvSpPr>
        <p:spPr>
          <a:xfrm>
            <a:off x="298440" y="1364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AR" sz="1800" spc="-1" strike="noStrike">
                <a:solidFill>
                  <a:srgbClr val="2185c5"/>
                </a:solidFill>
                <a:latin typeface="Raleway"/>
                <a:ea typeface="Calibri lig"/>
              </a:rPr>
              <a:t>UEPEX – TALLER INICIO DE EJERCICIO 202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9" name="Rectangle 8"/>
          <p:cNvSpPr/>
          <p:nvPr/>
        </p:nvSpPr>
        <p:spPr>
          <a:xfrm>
            <a:off x="387360" y="509760"/>
            <a:ext cx="377640" cy="475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0" name="Straight Connector 22"/>
          <p:cNvSpPr/>
          <p:nvPr/>
        </p:nvSpPr>
        <p:spPr>
          <a:xfrm flipH="1">
            <a:off x="696600" y="760320"/>
            <a:ext cx="12600" cy="359100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51" name="8 Imagen" descr=""/>
          <p:cNvPicPr/>
          <p:nvPr/>
        </p:nvPicPr>
        <p:blipFill>
          <a:blip r:embed="rId1"/>
          <a:stretch/>
        </p:blipFill>
        <p:spPr>
          <a:xfrm>
            <a:off x="765000" y="1504800"/>
            <a:ext cx="6855120" cy="3522960"/>
          </a:xfrm>
          <a:prstGeom prst="rect">
            <a:avLst/>
          </a:prstGeom>
          <a:ln w="0">
            <a:noFill/>
          </a:ln>
        </p:spPr>
      </p:pic>
      <p:sp>
        <p:nvSpPr>
          <p:cNvPr id="1552" name="13 CuadroTexto"/>
          <p:cNvSpPr/>
          <p:nvPr/>
        </p:nvSpPr>
        <p:spPr>
          <a:xfrm>
            <a:off x="765000" y="852480"/>
            <a:ext cx="739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Sistema de Gestión de Proyectos: </a:t>
            </a:r>
            <a:r>
              <a:rPr b="1" lang="es-AR" sz="1800" spc="-1" strike="noStrike">
                <a:solidFill>
                  <a:srgbClr val="445469"/>
                </a:solidFill>
                <a:latin typeface="Calibri"/>
              </a:rPr>
              <a:t>Redmine DGSIAF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TextBox 5"/>
          <p:cNvSpPr/>
          <p:nvPr/>
        </p:nvSpPr>
        <p:spPr>
          <a:xfrm>
            <a:off x="298440" y="1364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AR" sz="1800" spc="-1" strike="noStrike">
                <a:solidFill>
                  <a:srgbClr val="2185c5"/>
                </a:solidFill>
                <a:latin typeface="Raleway"/>
                <a:ea typeface="Calibri lig"/>
              </a:rPr>
              <a:t>UEPEX – TALLER INICIO DE EJERCICIO 202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4" name="Rectangle 8"/>
          <p:cNvSpPr/>
          <p:nvPr/>
        </p:nvSpPr>
        <p:spPr>
          <a:xfrm>
            <a:off x="387360" y="509760"/>
            <a:ext cx="377640" cy="475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5" name="Straight Connector 22"/>
          <p:cNvSpPr/>
          <p:nvPr/>
        </p:nvSpPr>
        <p:spPr>
          <a:xfrm flipH="1">
            <a:off x="696600" y="760320"/>
            <a:ext cx="12600" cy="359100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6" name="13 CuadroTexto"/>
          <p:cNvSpPr/>
          <p:nvPr/>
        </p:nvSpPr>
        <p:spPr>
          <a:xfrm>
            <a:off x="1017720" y="576360"/>
            <a:ext cx="1544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AR" sz="1800" spc="-1" strike="noStrike">
                <a:solidFill>
                  <a:srgbClr val="445469"/>
                </a:solidFill>
                <a:latin typeface="Calibri"/>
              </a:rPr>
              <a:t>Nueva Petición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57" name="7 Imagen" descr=""/>
          <p:cNvPicPr/>
          <p:nvPr/>
        </p:nvPicPr>
        <p:blipFill>
          <a:blip r:embed="rId1"/>
          <a:stretch/>
        </p:blipFill>
        <p:spPr>
          <a:xfrm>
            <a:off x="990720" y="974880"/>
            <a:ext cx="6600600" cy="36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Box 5"/>
          <p:cNvSpPr/>
          <p:nvPr/>
        </p:nvSpPr>
        <p:spPr>
          <a:xfrm>
            <a:off x="298440" y="1364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AR" sz="1800" spc="-1" strike="noStrike">
                <a:solidFill>
                  <a:srgbClr val="2185c5"/>
                </a:solidFill>
                <a:latin typeface="Raleway"/>
                <a:ea typeface="Calibri lig"/>
              </a:rPr>
              <a:t>UEPEX – TALLER INICIO DE EJERCICIO 202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9" name="Rectangle 8"/>
          <p:cNvSpPr/>
          <p:nvPr/>
        </p:nvSpPr>
        <p:spPr>
          <a:xfrm>
            <a:off x="387360" y="509760"/>
            <a:ext cx="377640" cy="475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0" name="Straight Connector 22"/>
          <p:cNvSpPr/>
          <p:nvPr/>
        </p:nvSpPr>
        <p:spPr>
          <a:xfrm flipH="1">
            <a:off x="696600" y="760320"/>
            <a:ext cx="12600" cy="359100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61" name="6 Imagen" descr=""/>
          <p:cNvPicPr/>
          <p:nvPr/>
        </p:nvPicPr>
        <p:blipFill>
          <a:blip r:embed="rId1"/>
          <a:stretch/>
        </p:blipFill>
        <p:spPr>
          <a:xfrm>
            <a:off x="765000" y="700200"/>
            <a:ext cx="6612120" cy="41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6T01:35:46Z</dcterms:created>
  <dc:creator>Microsoft Office User</dc:creator>
  <dc:description/>
  <dc:language>en-US</dc:language>
  <cp:lastModifiedBy>Silvana Amadeo</cp:lastModifiedBy>
  <dcterms:modified xsi:type="dcterms:W3CDTF">2022-12-02T16:11:46Z</dcterms:modified>
  <cp:revision>893</cp:revision>
  <dc:subject/>
  <dc:title>Sistema Integrado de Información Financiera</dc:title>
</cp:coreProperties>
</file>